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1541648-B117-4C62-9265-4BCE20F222C3}" type="datetime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0180816-85EA-45B0-B56C-D9A21155F4FE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om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rt b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a sort order for the copies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ll Numb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e/Time Copies Add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rom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ased 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, select a method for identifying the copies to include: List, copy category, or barcode list. To review the contents of the Resource List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you chose Date/Time Copies Added, enter a beginning date and time next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an ending date and time next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lick the calendar icon for a calend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elect your label stock and the starting lab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elect the font size for the spine lab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If you do not want the printing to start a new line after each space in the call number, clear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rt a new line at every spa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ck bo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o generate the label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hen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repo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rint patron barcodes in two ways. First under patron lists and barcode lists and second, labels/cards and barcode labels. To print an entire group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abels or a list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pe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tron Repor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selec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 Labe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see used and unused barcode numbers. First let’s print a used barcode number. Select used barcode number. Select a method for identifying the patrons to include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atron Na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e Leve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uation Yea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ro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ne of the User-Defined field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st of Pa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e Patron Add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arcode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hen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report. The report will open for you to view and pr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int unused barcodes, under list patron, select unused barcode number. Enter the quantity of labels needed. Enter the starting barcode number and barcode range.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hen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port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report. The report will open for you to view and pr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Reports tab, click on library reports on the left. Under the list labels, click on barcode lab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lace the number of labels for each bar code. 2. Choose the way you want the labels sorted: Author/Title, Call Number/Author, Title/Author, or Date/Time Copies Added. 3. From the Select by list, select a method for identifying the copies to inclu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: If you have multiple Resource Lists, select the one needing the label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view the contents of the Resource List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Category: Select a copy category from the li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arcode Li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Either create a new list, or select an existing barcode fi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ntering a date and time is opti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imit the labels to copies of a single material type, select one from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terial 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imit the labels to copies of one or more Circulation Type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pd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ext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irculation Typ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select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include barcode labels for temporary copies, select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e temporary cop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ck bo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any of the check boxes to include additional information on the label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code labels always have the scannable barcode and the eye-readable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your label stock and the starting lab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 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Report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Manag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s, click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open the label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or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Reports tab, click on library reports on the left. Under the list labels, click on barcode lab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1E9-B281-4F18-9305-B293B0EB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350-9457-435E-BF40-5D207EC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408-AD29-4C1B-9177-1622DF5B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93D-ACEF-4B9A-BABF-3B5EA268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5E4-D06D-40D8-BA10-E93D8A9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F201-7C3C-4522-BE6C-798247FE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8F65-6092-494E-8015-226496B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07E-86D1-47A1-B66F-5A3C7928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09A-1061-4CB8-BE34-DC64664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390-D00F-4DAB-A243-6452EBD2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37BE-8285-4FCC-A11A-2E84C71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55F-8BBE-4026-BA06-BE5DA329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0A2C-4BDD-405F-A88F-600CBD8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1E8-6C0D-416A-B455-85E1864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F9EA-30BD-4BA7-8FB2-06DFBCE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4753-5644-419B-BF2D-29C79546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920-C11C-46E9-AD1B-4924D14D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56613-8B4F-4A89-88E2-F36D0DFA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9CDFC-C0BF-468E-A196-C8EBA5E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783AB-0423-411B-A591-011C5200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4D0C5-4919-430B-A2EC-A4E0F0F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E44D1-8A5E-4D2D-AF0D-715C774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51B-7740-4CC0-975A-1A7A50A2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38F0E-53B5-446F-B300-3268B3DB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147B3-98D0-4EB6-9C45-1D717C3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29B43-7A0D-4794-8E3F-8FCB2E2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96881-0ED6-46C9-9CB6-36E588A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402A2-719A-42CA-BCDC-BC4F61C1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C5B1F-02AC-4F44-BE70-9E5F43FB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6BA9D-1FDF-4BF4-83E9-5FCBC436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9A5B-E3FD-41A6-BB8B-BF8122FF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3AC1-DB7A-41C4-AA50-ABEF8EF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A69E-C332-42DB-B1E1-8DD16A2F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D38-8B29-4F70-80AD-DFD977FA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E2D3-3018-4D51-9F3F-06CD9CFA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2752-EF9E-4B40-83AA-980C2AD3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70DF-8662-4DC9-8AAE-39E3E22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5178-8489-4B2D-8E5D-C7220EA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13F2-9B4B-4077-9052-82063A9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A8D6-CA32-4891-B1A8-CE81191E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F635-B52B-45F8-8ADE-B7FD6A49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6748-C603-4F58-98CB-B7E1169C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4558-4BD7-4B04-A70C-CFE9B7F8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8E4A0-29C9-4486-8773-CC949E90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7FA-8DC5-4D06-B25B-E0FE045C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DE636-1161-4455-B017-3A1BEEC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FAEFF-51F7-4BA1-81FF-F871937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BA16A-A83D-455A-AFA4-07AC2AB1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8334E-103D-43DC-A007-86347C3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D5F15-310E-46FD-BE9A-2624D45C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B6A19-D7D9-4617-BD8C-EE5D4F6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49B7C-5834-41D4-BFFF-6B9E81E3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ADC8E-A506-4610-BE99-55FFAFA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7C399-5EB6-45A4-897B-32464803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0E8F8-928D-49BB-A5AD-353225E0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A90-A438-499F-B924-2583F1CB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FACE2-0A9B-4564-91DE-DAA29B69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9E9BA6-FA3E-4242-899B-17A2EB28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CFCE1-7344-421D-949F-3590E74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DA231-A7A8-4660-AFCB-7FADA67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EDB1C-FD3C-4A04-BA56-2D504D2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94907-D0B6-4BF2-BB88-E0DAB29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DD7A8-B1AF-4318-AD6D-0EEED47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12550-E49C-4728-BFDE-6E25FE0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81E47-3F1A-459D-8386-D61DCD8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88496-8B21-4517-B4C6-B388F56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B99-C57D-4478-9C81-688639DD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BD984-247F-492A-AB19-973D6C0B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263C2-B294-4E0B-8988-6C54EE40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CB9B0-E543-4C2E-9D2B-08DB10B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29FF5-97AF-4F6D-B11E-7BE284D0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59BAB-41EB-49F0-A1FE-12A60D9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F2F93-47E2-4847-A1A6-73670DA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C0729-8ED9-4F7D-9C3C-B5D2103A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7D085-96CD-4181-8557-1A9DA791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E7F77-6B69-48C5-B0C6-4C867A5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6591B-B3F8-4699-8A04-E269D39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664-FDF9-45AA-8F3C-1971A3F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452E7-8A5B-4B86-B03B-ED04A2E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1EBC4-43A5-464B-B3FD-0EBC1036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2FF3B-0414-4B1B-A62A-66DCE233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43195-8AFB-4265-8B22-C887EE6C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FF169-28F0-4637-A9B7-A33484B3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0EE-E966-4A22-BEFC-2C07D29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1C81C-4FEA-4F08-B542-20C7B8A88C4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ACDF2-BFD1-4D19-8A57-3B15116778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D9003-7573-4D2F-A9F9-0201DEDA183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5FC0B-C24C-4BF4-9BA6-684669903F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1AD4D-C22E-40B6-B971-5A3F6878234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CF5E2-76A9-4C88-92BA-3F50B48DD4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21EE8-0F30-4785-88DB-07E87445651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2B983-DC32-4B58-8221-C7D4283E61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1A032-1FD4-4C09-8069-F9928FBD3A3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501A7-7CA1-42A6-AC26-C391F7A88F6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C91B3-E136-4EAF-80D2-70133493E89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C14F9-E717-4E69-A9A3-E44A136C0CF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55940-C43C-462A-AFA4-84EB05F4736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ED169-FCA0-4807-8CEB-51CE65E8DC1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ection Four: Reports and Utilitie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5" descr="banner4_103112"/>
          <p:cNvPicPr/>
          <p:nvPr/>
        </p:nvPicPr>
        <p:blipFill>
          <a:blip r:embed="rId1"/>
          <a:stretch/>
        </p:blipFill>
        <p:spPr>
          <a:xfrm>
            <a:off x="923760" y="1665360"/>
            <a:ext cx="7000920" cy="3552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535200" y="5692680"/>
            <a:ext cx="18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erne Pr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T 7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042080" y="49888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Folle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Barcodes_LLP4.ppt256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Spine Label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rcRect l="21551" t="18137" r="8413" b="33895"/>
          <a:stretch/>
        </p:blipFill>
        <p:spPr>
          <a:xfrm>
            <a:off x="1428840" y="1866960"/>
            <a:ext cx="6315120" cy="4734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1995480" y="2666880"/>
            <a:ext cx="116676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2647800" y="2914560"/>
            <a:ext cx="609840" cy="3248280"/>
          </a:xfrm>
          <a:custGeom>
            <a:avLst/>
            <a:gdLst>
              <a:gd name="textAreaLeft" fmla="*/ 389520 w 609840"/>
              <a:gd name="textAreaRight" fmla="*/ 610200 w 609840"/>
              <a:gd name="textAreaTop" fmla="*/ 84600 h 3248280"/>
              <a:gd name="textAreaBottom" fmla="*/ 3163680 h 324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424400" y="5896080"/>
            <a:ext cx="6001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Barcodes_LLP4.ppt292-1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28520" y="355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Barcodes/Spine Labels, and Running an Unused Barcode Re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rcRect l="18367" t="21889" r="6505" b="26126"/>
          <a:stretch/>
        </p:blipFill>
        <p:spPr>
          <a:xfrm>
            <a:off x="665280" y="1781280"/>
            <a:ext cx="7697520" cy="41241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 rot="5400000">
            <a:off x="2898360" y="1838160"/>
            <a:ext cx="24120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Barcodes_LLP4.ppt262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52120" y="1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Barcodes for Patr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rcRect l="2615" t="17428" r="21557" b="32153"/>
          <a:stretch/>
        </p:blipFill>
        <p:spPr>
          <a:xfrm>
            <a:off x="1523880" y="1619280"/>
            <a:ext cx="6091200" cy="44766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1523880" y="2771640"/>
            <a:ext cx="53820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33720" y="1889280"/>
            <a:ext cx="53820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482920" y="3638520"/>
            <a:ext cx="538200" cy="23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Barcodes_LLP4.ppt284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52120" y="1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sed Barcodes for Patr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191120" y="2346480"/>
            <a:ext cx="538200" cy="23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rcRect l="2358" t="17385" r="20495" b="53238"/>
          <a:stretch/>
        </p:blipFill>
        <p:spPr>
          <a:xfrm>
            <a:off x="1762200" y="1461960"/>
            <a:ext cx="5086440" cy="13575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2685960" y="1886040"/>
            <a:ext cx="1086120" cy="69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9" descr=""/>
          <p:cNvPicPr/>
          <p:nvPr/>
        </p:nvPicPr>
        <p:blipFill>
          <a:blip r:embed="rId2"/>
          <a:srcRect l="1874" t="17716" r="23582" b="51748"/>
          <a:stretch/>
        </p:blipFill>
        <p:spPr>
          <a:xfrm>
            <a:off x="852480" y="3019320"/>
            <a:ext cx="6932520" cy="3054600"/>
          </a:xfrm>
          <a:prstGeom prst="rect">
            <a:avLst/>
          </a:prstGeom>
          <a:ln w="0">
            <a:noFill/>
          </a:ln>
        </p:spPr>
      </p:pic>
      <p:pic>
        <p:nvPicPr>
          <p:cNvPr id="378" name="Barcodes_LLP4.ppt285-3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2120" y="1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 Unused Barcodes for Patr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1"/>
          <a:srcRect l="1874" t="17716" r="23582" b="51748"/>
          <a:stretch/>
        </p:blipFill>
        <p:spPr>
          <a:xfrm>
            <a:off x="852480" y="3571920"/>
            <a:ext cx="6932520" cy="3114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"/>
          <p:cNvPicPr/>
          <p:nvPr/>
        </p:nvPicPr>
        <p:blipFill>
          <a:blip r:embed="rId2"/>
          <a:srcRect l="2747" t="17723" r="21908" b="40235"/>
          <a:stretch/>
        </p:blipFill>
        <p:spPr>
          <a:xfrm>
            <a:off x="1133640" y="1343160"/>
            <a:ext cx="6148080" cy="1947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2077920" y="1924200"/>
            <a:ext cx="2855880" cy="1180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197240" y="2797200"/>
            <a:ext cx="538200" cy="30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Barcodes_LLP4.ppt286-3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sed Barcode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rcRect l="1913" t="16222" r="23216" b="13616"/>
          <a:stretch/>
        </p:blipFill>
        <p:spPr>
          <a:xfrm>
            <a:off x="1019160" y="2066760"/>
            <a:ext cx="6657840" cy="40719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1809720" y="5067360"/>
            <a:ext cx="8571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057320" y="2257560"/>
            <a:ext cx="600120" cy="266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Barcodes_LLP4.ppt287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sed Barcode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rcRect l="11480" t="19185" r="13266" b="18080"/>
          <a:stretch/>
        </p:blipFill>
        <p:spPr>
          <a:xfrm>
            <a:off x="519120" y="1781280"/>
            <a:ext cx="7405560" cy="43909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7067520" y="2143080"/>
            <a:ext cx="8571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2038320" y="2543040"/>
            <a:ext cx="609480" cy="3248280"/>
          </a:xfrm>
          <a:custGeom>
            <a:avLst/>
            <a:gdLst>
              <a:gd name="textAreaLeft" fmla="*/ 389520 w 609480"/>
              <a:gd name="textAreaRight" fmla="*/ 609840 w 609480"/>
              <a:gd name="textAreaTop" fmla="*/ 84600 h 3248280"/>
              <a:gd name="textAreaBottom" fmla="*/ 3163680 h 324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4057560" y="5591160"/>
            <a:ext cx="85752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Barcodes_LLP4.ppt290-3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04680" y="15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Unused Barcode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1913" t="16222" r="23216" b="13616"/>
          <a:stretch/>
        </p:blipFill>
        <p:spPr>
          <a:xfrm>
            <a:off x="695160" y="1417680"/>
            <a:ext cx="3943440" cy="24112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1162080" y="3247920"/>
            <a:ext cx="51444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95160" y="1571760"/>
            <a:ext cx="466920" cy="112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2"/>
          <a:srcRect l="21893" t="18451" r="30002" b="40253"/>
          <a:stretch/>
        </p:blipFill>
        <p:spPr>
          <a:xfrm>
            <a:off x="1763640" y="3828960"/>
            <a:ext cx="6161040" cy="3152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2543040" y="4552920"/>
            <a:ext cx="209556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895480" y="4734000"/>
            <a:ext cx="609840" cy="19620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4857840" y="6362640"/>
            <a:ext cx="514440" cy="1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Barcodes_LLP4.ppt291-2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nting Spine Labels for Book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rcRect l="1913" t="16222" r="23216" b="13616"/>
          <a:stretch/>
        </p:blipFill>
        <p:spPr>
          <a:xfrm>
            <a:off x="1158840" y="1762200"/>
            <a:ext cx="7156440" cy="43765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7"/>
          <p:cNvSpPr/>
          <p:nvPr/>
        </p:nvSpPr>
        <p:spPr>
          <a:xfrm>
            <a:off x="2295360" y="5495760"/>
            <a:ext cx="857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1995480" y="2390760"/>
            <a:ext cx="6001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Barcodes_LLP4.ppt288-2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4:48:50Z</dcterms:created>
  <dc:creator>Proctor, Laverne</dc:creator>
  <dc:description/>
  <dc:language>en-US</dc:language>
  <cp:lastModifiedBy>Proctor, Laverne</cp:lastModifiedBy>
  <dcterms:modified xsi:type="dcterms:W3CDTF">2013-03-12T05:16:33Z</dcterms:modified>
  <cp:revision>18</cp:revision>
  <dc:subject/>
  <dc:title>Slide 1</dc:title>
</cp:coreProperties>
</file>